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771B-F8EF-49AC-A468-90854C409CD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D677-EC17-45BB-928C-13F7FD93D80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343080" y="4181400"/>
            <a:ext cx="6286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rente a esta crítica, desarrolla metodologías basadas en el uso de MUESTRAS CRITERIO  y de IDENTIFICACIÓN DE PENSAMIENTOS Y CONDUCTAS OPERANTES RELACIONADAS CAUSALEMENTE A RESULTADOS EXISTOSOS, en basea observación en terreno y entrevis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us investigaciones aplicadas originalmente al campo de la Diplomacia noerteamericana demuestran cómo ciertas habilidades específicas descubiertas (Ejemplo: sensibilidad interpersonal intercultural, valoración positiva de los demás y rapidez de aprendizaje de redesmpolítcas de influencia) son capaces de predecir el desempeño futuro de jóvenes diplomáticos, cosa que no permitien test estandarizados de conocimiento e intelig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A raíz de investigaciones posteriores desarrolla el enfoque de EVALUACIÓN DE COMPETENCIAS LABORALES, postulando el concepto de COMPETENCIA.  Este enfoque ha sido desarrollado posteriormente por Boyatzis (1981, 1982), Spencer &amp; Spencer (199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CEPTO EXPLI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os autores plantean que toda competencia tiene 5 DIMENSIONES POSIBLES, CENTRALES (MOTIVOS, RASGOS, AUTIMAGEN) o PERIFÉRICAS (CONOCIMIENTOS Y DESTREZAS).  Además, que cada una de ellas siempre integra algún tipo de INTENCIÓN (3 opciones), con una ACCIÓN (2 opciones) que se relaciona causalmente a un RESULTADO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1D69-A5D2-4545-A1D2-61DBEC96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CC30-4899-4A03-8ED7-F367410D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DD7E-0CA3-4842-82D6-763C4EB4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6EC-9EBB-440A-B1BE-AE0C0D89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74E-62A4-42A3-89CD-948E42CA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026-FDB5-4EA1-A87E-111297EA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CBDC-7BDC-42F9-9355-70E75DB4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BA3-4C06-4C8E-AC3D-EDD918CB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8DC7-AC26-40BB-B34A-7307185A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032-A8A3-4142-8782-1CC05F11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A592-8DCD-460C-A892-E3710099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531B-DEEB-4779-9EAC-7843045D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Industrial736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Industrial736 BT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89A9-5839-44EA-B664-F1A81E0E84B6}" type="datetime">
              <a:rPr b="1" lang="es-ES" sz="1400" spc="-1" strike="noStrike">
                <a:solidFill>
                  <a:srgbClr val="000000"/>
                </a:solidFill>
                <a:latin typeface="Industrial736 BT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Industrial736 B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Industrial736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F940-90FF-41F0-805C-159B0743DB2F}" type="slidenum">
              <a:rPr b="1" lang="en-US" sz="1400" spc="-1" strike="noStrike">
                <a:solidFill>
                  <a:srgbClr val="000000"/>
                </a:solidFill>
                <a:latin typeface="Industrial736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RECURSOS HUMANO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Topicos de Gestión Pública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Profesor: Mario Marce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MGPP-UCH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Segundo semestre 2005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8177040" cy="13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Industrial736 BT"/>
              </a:rPr>
              <a:t>Una COMPETENCIA es una Característica Subyacente de un individuo que está Relacionada Causalmente a un Criterio de Referencia de Desempeño Superior en un trabajo o situación (Spencer &amp; Spencer, 1993).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9" name=""/>
          <p:cNvSpPr/>
          <p:nvPr/>
        </p:nvSpPr>
        <p:spPr>
          <a:xfrm>
            <a:off x="6837840" y="3581280"/>
            <a:ext cx="1653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Resultado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403680" y="4141800"/>
            <a:ext cx="2417040" cy="831600"/>
            <a:chOff x="6403680" y="4141800"/>
            <a:chExt cx="2417040" cy="831600"/>
          </a:xfrm>
        </p:grpSpPr>
        <p:sp>
          <p:nvSpPr>
            <p:cNvPr id="121" name=""/>
            <p:cNvSpPr/>
            <p:nvPr/>
          </p:nvSpPr>
          <p:spPr>
            <a:xfrm>
              <a:off x="6435720" y="4141800"/>
              <a:ext cx="229392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10320" y="4200480"/>
              <a:ext cx="1964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Rendimiento 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03680" y="4511520"/>
              <a:ext cx="241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el puesto de trabaj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612080" y="3581280"/>
            <a:ext cx="1553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Intenció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371600" y="4141800"/>
            <a:ext cx="2046240" cy="831600"/>
            <a:chOff x="1371600" y="4141800"/>
            <a:chExt cx="2046240" cy="831600"/>
          </a:xfrm>
        </p:grpSpPr>
        <p:sp>
          <p:nvSpPr>
            <p:cNvPr id="126" name=""/>
            <p:cNvSpPr/>
            <p:nvPr/>
          </p:nvSpPr>
          <p:spPr>
            <a:xfrm>
              <a:off x="1371600" y="4141800"/>
              <a:ext cx="196560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65560" y="4221000"/>
              <a:ext cx="1952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aracterístic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90120" y="4573440"/>
              <a:ext cx="1456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Person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530360" y="5073480"/>
            <a:ext cx="100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Mo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31440" y="5405400"/>
            <a:ext cx="960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Ras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30000" y="5734080"/>
            <a:ext cx="1894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Autoconcep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39800" y="3581280"/>
            <a:ext cx="1271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5400"/>
                </a:solidFill>
                <a:latin typeface="Arial"/>
              </a:rPr>
              <a:t>"Acció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895560" y="4121280"/>
            <a:ext cx="1965240" cy="831600"/>
            <a:chOff x="3895560" y="4121280"/>
            <a:chExt cx="1965240" cy="831600"/>
          </a:xfrm>
        </p:grpSpPr>
        <p:sp>
          <p:nvSpPr>
            <p:cNvPr id="134" name=""/>
            <p:cNvSpPr/>
            <p:nvPr/>
          </p:nvSpPr>
          <p:spPr>
            <a:xfrm>
              <a:off x="3895560" y="4121280"/>
              <a:ext cx="1965240" cy="831600"/>
            </a:xfrm>
            <a:prstGeom prst="rect">
              <a:avLst/>
            </a:prstGeom>
            <a:gradFill rotWithShape="0">
              <a:gsLst>
                <a:gs pos="0">
                  <a:srgbClr val="fcfeb9"/>
                </a:gs>
                <a:gs pos="50000">
                  <a:srgbClr val="fefefe"/>
                </a:gs>
                <a:gs pos="100000">
                  <a:srgbClr val="fcfeb9"/>
                </a:gs>
              </a:gsLst>
              <a:lin ang="5400000"/>
            </a:gradFill>
            <a:ln w="12600">
              <a:solidFill>
                <a:srgbClr val="0000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37920" y="4344840"/>
              <a:ext cx="1272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onduc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807000" y="5451480"/>
            <a:ext cx="1877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Cono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5920" y="5073480"/>
            <a:ext cx="1245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Arial"/>
              </a:rPr>
              <a:t>Destr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84720" y="4344840"/>
            <a:ext cx="495000" cy="347760"/>
          </a:xfrm>
          <a:prstGeom prst="rightArrow">
            <a:avLst>
              <a:gd name="adj1" fmla="val 50000"/>
              <a:gd name="adj2" fmla="val 7117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99320" y="4370400"/>
            <a:ext cx="495000" cy="347760"/>
          </a:xfrm>
          <a:prstGeom prst="rightArrow">
            <a:avLst>
              <a:gd name="adj1" fmla="val 50000"/>
              <a:gd name="adj2" fmla="val 71176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340320" y="5181480"/>
            <a:ext cx="2450880" cy="777960"/>
            <a:chOff x="6340320" y="5181480"/>
            <a:chExt cx="2450880" cy="777960"/>
          </a:xfrm>
        </p:grpSpPr>
        <p:grpSp>
          <p:nvGrpSpPr>
            <p:cNvPr id="141" name=""/>
            <p:cNvGrpSpPr/>
            <p:nvPr/>
          </p:nvGrpSpPr>
          <p:grpSpPr>
            <a:xfrm>
              <a:off x="6557400" y="5261040"/>
              <a:ext cx="2124720" cy="647640"/>
              <a:chOff x="6557400" y="5261040"/>
              <a:chExt cx="2124720" cy="647640"/>
            </a:xfrm>
          </p:grpSpPr>
          <p:sp>
            <p:nvSpPr>
              <p:cNvPr id="142" name=""/>
              <p:cNvSpPr/>
              <p:nvPr/>
            </p:nvSpPr>
            <p:spPr>
              <a:xfrm>
                <a:off x="6800760" y="5261040"/>
                <a:ext cx="16416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80"/>
                    </a:solidFill>
                    <a:latin typeface="Arial"/>
                  </a:rPr>
                  <a:t>DESEMPEÑ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557400" y="5545440"/>
                <a:ext cx="21247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80"/>
                    </a:solidFill>
                    <a:latin typeface="Arial"/>
                  </a:rPr>
                  <a:t>SOBRESALI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6340320" y="5181480"/>
              <a:ext cx="2450880" cy="7779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MPETENCIAS: CONCEPTO CONDUCTU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EDB-C823-43DD-8461-356970488E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AED49-B317-4463-8CA1-2A4C86E8C040}" type="datetime1">
              <a:rPr lang="en-US"/>
              <a:t>07/28/26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MOTIVACION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Interés individual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Ingreso monetari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alización personal/profesi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restigi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Seguridad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oder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Intereses general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ealtad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Identificación con una mis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ogro de met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F63-4AA4-4B86-99A5-B819274879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20763-0BA9-4875-98C8-934A82DB6E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NTEXTO DE GRH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RH no opera en el vacío, la condicionan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Factores intern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Estructura organizaciona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Cultura institucional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Factores extern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Marco jurídic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Industrial736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Industrial736 BT"/>
              </a:rPr>
              <a:t>Mercado del trabajo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FE0-9CBB-4A03-93D8-337E2D9339B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90034-9F0A-4B7D-B109-E13D8F6CF8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362320" y="1752480"/>
          <a:ext cx="4800600" cy="4400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752480"/>
                    <a:ext cx="48006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91C1-B559-4A4C-B70F-D3AB988424C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52A9B-B719-4C43-8A78-3F6C9AC496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95280" y="1828800"/>
          <a:ext cx="6858000" cy="426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828800"/>
                    <a:ext cx="68580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C64D-504C-4E25-8ED8-32E40C5EC47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420B0-BC5C-4085-A8CA-6ACA586DC9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3880" y="1600200"/>
          <a:ext cx="6234120" cy="4721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600200"/>
                    <a:ext cx="6234120" cy="472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D7BD-2987-42DB-87AF-94B2C87B82D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D9F0A-23C1-4711-A5B7-EB6336E9C7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971800" y="1886040"/>
          <a:ext cx="3639960" cy="4286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1800" y="1886040"/>
                    <a:ext cx="363996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A78F-CB4E-4602-B2AB-40EBDE64662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DA37A-3CAE-42EB-A2B3-CF8A18A14F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COMPONENTE DEL GASTO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l personal del sector público en procesos de ajuste fiscal tipo “consenso de Washington”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xposición y vulnerabilidad de gastos en pers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ecanismos de ajuste: despidos masivos, incentivos al retiro, no reemplazo, reubicació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onsecuencias sobre gest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9B87-F49E-416C-A135-6AE2A3FBBA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6ECC7-8711-45F0-9127-17699C5BD3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LOS FUNCIONARIOS PUBLICOS COMO GRUPO DE INTERES Y FUENTE DE CONFLICT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Realidades cotidianas: conflictos, presiones, organizacion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os empleados públicos como grupo de interé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 de “public choice”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 agente-princip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foques de captura del estad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n todos estos caso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conocimiento de intereses particulares, específic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terminantes de eficacia organizacional y en rol del sector público como promotor del interés gener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333B-27E5-4643-B391-54DB848D98B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CF391-72CA-47E0-A71A-A1BF5C0869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LA FUNCION PU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Noción específica a la gestión de recursos humanos en el sector públ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osibles aproximacion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mpleo público en gener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arte del empleo público cuyas funciones están reguladas por normas de derecho público; ejercicio de potestades públicas. Relación con “núcleo estratégico” del estad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arte del empleo público regida por estatuto laboral propio, con relaciones laborales definidas por adscripción a una norma en lugar de contrat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C3F-ACCE-45AE-8F3C-0F6368B8F11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C6D2A-4ABB-480E-AC97-79D675772A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RECURSOS HUMANOS EN EL SECTOR PUBLIC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tivacion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as personas como recurso organizaci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a gestión de recursos humanos como sistema integrante de la gest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l personal como componente del gasto públ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Los funcionarios como grupo de interés y fuente de conflict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El servicio civil como base fundamental de la función públ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62C-6D00-4A13-8276-AC149500E0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503DA-D3A2-46BA-B216-1A57D86986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SERVICIO CIVIL Y LA FUNCION PU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 de articulación del empleo público mediante el cual determinados países garantizan existencia de administraciones públicas profesional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Administración profesional, independencia e imparcialidad en su funcionamiento; protección frente a padrinazgo y clientelismo polític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gulaciones específicas, articuladas y relacionadas con ethos instituci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FB69-7CB7-4B5F-AF0D-64B71411E7D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D7E4C-8117-4326-807B-B2051D26DC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ORIGENES Y RAZON DE SER DE LOS SISTEMAS DE SERVICIO CIVI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aíses desarrollados de Europa y Norteamérica, fines del siglo XVIII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Inclusión en declaración de derechos del hombre (1789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reación del constitucionalismo moderno, asociado al orden liberal y el mercad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Institución clave de la seguridad jurídic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45A2-E0B6-4E80-B38B-E894890401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28F03-F84C-4971-845B-52DFC9579B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COMPONENTES DEL MARCO REGULATORIO DEL SERVICIO CIVI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s de acces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arrera profesi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rechos y deberes de los funcionari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dministración del Servicio Civi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11D4-8B50-4AD5-A67F-4EB8FF951DB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2DF0B-111E-4177-89E7-4F6A3AABA4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ISTEMAS DE ACCESO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 francé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ursos masivos, selección por tribunal y ranking riguroso en función de exámen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scuelas de funcionarios (reclutamiento de alumnos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Modelo Alemá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Selección por etap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mbina teoría y práctic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Modelo británic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clutamiento a través de órgano centralizado (Civil Service Commission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ursos abiertos, focalizados en características personal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6663-865C-4F39-92D7-C23BA2BCE51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267F0-F810-467C-989A-3B1D169FF6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ISTEMA DE CARRER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s de empleo (position-based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Reclutamiento para un empleo o puest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ompetencia abiert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Sistema de carrera propiamente tal (career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structuración por niveles ascendent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mpetencia intern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68D-B2BB-4052-9C97-70B750CF9B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63AC5-C0FB-4FD6-BB21-A62A6BCF8D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DERECHOS Y DEBERE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recho al carg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rotección frente al despido arbitrario, favoritism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pido por razones disciplinari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pido por por causes organizativas o económic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Deber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ealtad a la nación e instituciones básic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serva sobre asuntos conocidos en atención al carg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ódigos de étic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Industrial736 BT"/>
              </a:rPr>
              <a:t>Derechos colectiv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Negociación colectiv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Huelg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C667-B67B-4B2C-A07C-229C0D5A667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D7626-0F5B-4A1B-8F70-43E31E469F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ADMINISTRACION DEL SISTEM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s centralizados: Francia Japón, España, Gran Bretañ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delos descentralizados: Estados Unidos, Suecia, Holanda, Australi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710-B3C1-4024-8F7B-525169EA15D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7E940-8053-44A5-8CE0-EEB2EA6552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PROBLEMAS DEL MODELO DE SERVICIO CIVIL Y REFORMAS RECIENTE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spectos estructurale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onfrontación entre políticos y burócrata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Rigideces internas inevitabl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Contexto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Crisis fisc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Expansión cualitativa y cuantitativa de demanda por servicios públic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oco de reformas: flexibilidad para mejorar eficencia y capacidad de respuesta frente a ciudadaní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E156-2C61-414D-B81C-4A416F6EAB9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04603-7B0A-47DF-8689-5A7BDF2B98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EMENTOS COMUNES A REFORMA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ovilidad, capacidad de redespliegue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Descentralización de decisiones claves en gestión de RRHH (reclutamiento, promoción, remuneración)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Ampliación de discrecionalidad de directivo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Medición y retribución del desempeño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lexibilización de formas contractual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Fortalecimiento de control político y rendición de cuenta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8984-54CE-436F-9865-0D0F7381747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BA1905-E298-4F9B-BE35-90A71829B1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¿Y QUE PUEDEN HACER LAS ORGANIZACIONES PUBLICAS CON MAYOR AUTONOMIA EN GRH?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nfoque de competencias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 obtención de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 movilidad de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n desarrollo de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FBE-D572-4355-A37E-168CE3476E0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1F990-A01F-4FCB-95E0-6A62E6C8F4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as personas como principal recurso de una organización para lograr sus fine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La eficiencia de las organizaciones está principalmente determinada por el desempeño de su personal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l personal como determinante fundamental de los costos, relación con economía, eficienci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estión de personal como herramienta al servicio de la eficacia organizativa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6194-5EEC-4E0D-B4DE-C6F7162AF3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AA323-5D2B-4F67-9F80-70249C36E8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74880" y="343080"/>
            <a:ext cx="7269120" cy="1071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10000" y="20000"/>
                </a:lnTo>
                <a:lnTo>
                  <a:pt x="20000" y="20000"/>
                </a:lnTo>
                <a:lnTo>
                  <a:pt x="20000" y="1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00080" y="382680"/>
            <a:ext cx="724392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875"/>
              </a:lnSpc>
              <a:tabLst>
                <a:tab algn="l" pos="0"/>
                <a:tab algn="l" pos="822240"/>
                <a:tab algn="l" pos="1646280"/>
                <a:tab algn="l" pos="2468520"/>
                <a:tab algn="l" pos="3292560"/>
                <a:tab algn="l" pos="4114800"/>
                <a:tab algn="l" pos="4937040"/>
                <a:tab algn="l" pos="5761080"/>
                <a:tab algn="l" pos="658332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FERENCIAS ENTRE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B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875"/>
              </a:lnSpc>
              <a:tabLst>
                <a:tab algn="l" pos="0"/>
                <a:tab algn="l" pos="822240"/>
                <a:tab algn="l" pos="1646280"/>
                <a:tab algn="l" pos="2468520"/>
                <a:tab algn="l" pos="3292560"/>
                <a:tab algn="l" pos="4114800"/>
                <a:tab algn="l" pos="4937040"/>
                <a:tab algn="l" pos="5761080"/>
                <a:tab algn="l" pos="658332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 CAPACITACIÓN TR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41520" y="1862280"/>
            <a:ext cx="8178480" cy="4012560"/>
            <a:chOff x="641520" y="1862280"/>
            <a:chExt cx="8178480" cy="4012560"/>
          </a:xfrm>
        </p:grpSpPr>
        <p:sp>
          <p:nvSpPr>
            <p:cNvPr id="191" name=""/>
            <p:cNvSpPr/>
            <p:nvPr/>
          </p:nvSpPr>
          <p:spPr>
            <a:xfrm>
              <a:off x="641520" y="1862280"/>
              <a:ext cx="3282840" cy="33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NT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IEMPOS DE ENSEÑANZA IGUALES, RESULTADOS DESIG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SCONECTADA DE LOS PROBLEMAS COTIDIANOS EN EL TRABAJ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DA EN LA ENSEÑANZA FORMAL EN AULA, DONDE EL PROFESOR ES  QUIEN ENSEÑ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03640" y="1862280"/>
              <a:ext cx="3816360" cy="40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OR COMPETENCIA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261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IEMPOS DE ENSEÑANZA DESIGUALES, RESULTADOS SIMI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BLEMAS EN EL TRABAJO SON EL PUNTO DE PARTIDA DE LOS 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DA EN LA PERSONA Y EN EL APRENDIZAJE INFORMAL, DONDE EL PROFESOR ES UNO DE LOS AGENTES DE ENSEÑANZA, ADEMÁS DE LOS COLEGAS ESTUDIA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706920" y="13539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.MERTENS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641520" y="1895400"/>
            <a:ext cx="8178480" cy="4052520"/>
            <a:chOff x="641520" y="1895400"/>
            <a:chExt cx="8178480" cy="4052520"/>
          </a:xfrm>
        </p:grpSpPr>
        <p:sp>
          <p:nvSpPr>
            <p:cNvPr id="195" name=""/>
            <p:cNvSpPr/>
            <p:nvPr/>
          </p:nvSpPr>
          <p:spPr>
            <a:xfrm>
              <a:off x="641520" y="1895400"/>
              <a:ext cx="3282840" cy="35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NT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DA EN LA ENSEÑANZA DE TEMAS TECNICOS; EN CASO QUE LO SOCIAL ERA PARTE DEL CURRICULUM, EL TRATAMIENTO FORMATIVO ERA SIMILAR A LO TÉCN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VALUACION AL FINAL DEL CURSO Y SIN UNA REFERENCIA TRANSPARENTE DE LOS CRITERIOS DE DESEMPEÑO Y CONOCIMIENTOS APLIC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8332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03640" y="1895400"/>
              <a:ext cx="3816360" cy="40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OR COMPETENCIA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261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 COMPETENCIA SOCIAL Y EMOCIONAL SON PARTE MEDULAR DE LA FORMACIÓN PORQUE INCIDEN EN LA CAPACIDAD DE APRENDER; ESTO REQUIERE EL DESAPRENDIZAJE DE HÁBITOS VIEJOS DE PENSAMIENTO, SENTIMIENTOS Y DE ACCIÓ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buClr>
                  <a:srgbClr val="0f1f00"/>
                </a:buClr>
                <a:buFont typeface="Arial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f1f00"/>
                  </a:solidFill>
                  <a:latin typeface="Arial"/>
                </a:rPr>
                <a:t>EL DIAGNOSTICO DE NECESIDADES 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200" spc="-1" strike="noStrike">
                  <a:solidFill>
                    <a:srgbClr val="0f1f00"/>
                  </a:solidFill>
                  <a:latin typeface="Arial"/>
                </a:rPr>
                <a:t>FORMACIÓN EMPIEZA CON LA EVALUACIÓN BASADA EN LAS CAPACIDADES A DESARROLLAR; LA AUTOEVALUACIÓN ES EL EJE DEL PROCESO DE ENSEÑANZA-APRENDIZAJ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1998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ts val="3061"/>
                </a:lnSpc>
                <a:tabLst>
                  <a:tab algn="l" pos="0"/>
                  <a:tab algn="l" pos="822240"/>
                  <a:tab algn="l" pos="1646280"/>
                  <a:tab algn="l" pos="2468520"/>
                  <a:tab algn="l" pos="3292560"/>
                  <a:tab algn="l" pos="4114800"/>
                  <a:tab algn="l" pos="4937040"/>
                  <a:tab algn="l" pos="576108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974880" y="343080"/>
            <a:ext cx="7269120" cy="1071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10000" y="20000"/>
                </a:lnTo>
                <a:lnTo>
                  <a:pt x="20000" y="20000"/>
                </a:lnTo>
                <a:lnTo>
                  <a:pt x="20000" y="1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00080" y="382680"/>
            <a:ext cx="724392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875"/>
              </a:lnSpc>
              <a:tabLst>
                <a:tab algn="l" pos="0"/>
                <a:tab algn="l" pos="822240"/>
                <a:tab algn="l" pos="1646280"/>
                <a:tab algn="l" pos="2468520"/>
                <a:tab algn="l" pos="3292560"/>
                <a:tab algn="l" pos="4114800"/>
                <a:tab algn="l" pos="4937040"/>
                <a:tab algn="l" pos="5761080"/>
                <a:tab algn="l" pos="658332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GUNAS DIFERENCIAS DE LA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B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ON LA CAPACITACIÓN TRADI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06920" y="13539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.MERTENS,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619200" y="219240"/>
          <a:ext cx="7908840" cy="6162480"/>
        </p:xfrm>
        <a:graphic>
          <a:graphicData uri="http://schemas.openxmlformats.org/drawingml/2006/table">
            <a:tbl>
              <a:tblPr/>
              <a:tblGrid>
                <a:gridCol w="2800440"/>
                <a:gridCol w="2560320"/>
                <a:gridCol w="2548080"/>
              </a:tblGrid>
              <a:tr h="69156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proxim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aracterís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Impacto en los Resultados de la Organ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8544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ursos Ex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Temas Gener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No ‘traje a la medida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Baj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ursos In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aptación parc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Grupos gran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Bajo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uto Estudio audio, video, CD, interne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ap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entrado en pens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Me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08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‘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aching’ grupos pequeñ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dap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Estudio de Ca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Pequeños Grup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844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munidades de Prácticas (Aprendizaje en Acció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ltamente adap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Focalizad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Sesiones cortas y frec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Alto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Coaching / Tutoría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Focalizado en situaciones concretas,  Inten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t">
                      <a:noAutofit/>
                    </a:bodyPr>
                    <a:p>
                      <a:pPr algn="ctr">
                        <a:lnSpc>
                          <a:spcPts val="3399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355680"/>
                          <a:tab algn="l" pos="711360"/>
                          <a:tab algn="l" pos="1066680"/>
                          <a:tab algn="l" pos="1422360"/>
                          <a:tab algn="l" pos="1778040"/>
                          <a:tab algn="l" pos="2133720"/>
                          <a:tab algn="l" pos="2489040"/>
                          <a:tab algn="l" pos="2844720"/>
                          <a:tab algn="l" pos="3200400"/>
                          <a:tab algn="l" pos="3556080"/>
                          <a:tab algn="l" pos="3911760"/>
                          <a:tab algn="l" pos="426708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Industrial736 BT"/>
                        </a:rPr>
                        <a:t>Muy Al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440" marR="8244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Industrial736 BT"/>
              </a:rPr>
              <a:t>Longo: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Industrial736 BT"/>
              </a:rPr>
              <a:t>GRH como sistema integrado de gestión, cuya finalidad básica o razón de ser es la adecuación de las personas a la estrategia de una organización para la producción de resultados acordes con las finalidades perseguidas.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3657600"/>
            <a:ext cx="144792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GESTION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Times New Roman"/>
              </a:rPr>
              <a:t>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3886200"/>
            <a:ext cx="990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3962520"/>
            <a:ext cx="99072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CON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XTER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28954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STRATE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5105520"/>
            <a:ext cx="16761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PERSO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58672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5909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334120" y="4267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409720" y="312372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409720" y="42670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84A-C213-4B17-AD09-A8E55B4AFA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A733E-F27D-4769-A4B8-D4F295C26C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Industrial736 BT"/>
              </a:rPr>
              <a:t>LA GESTIÓN DE RECURSOS HUMANOS COMO SISTEMA INTEGRANTE DE LA GESTIÓN PÚBLICA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Visión tradicional: administración de personal como un conjunto de operaciones especializadas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Obten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finición de funcion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valu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tribu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Regulación de derecho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Desvincul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6A4F-D5A6-49C8-8677-F391597636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F1670-F893-4E0C-94B2-5B2D60A182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SUBSISTEMAS DE LA GRH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838080" y="1066680"/>
            <a:ext cx="7504200" cy="5046840"/>
            <a:chOff x="838080" y="1066680"/>
            <a:chExt cx="7504200" cy="5046840"/>
          </a:xfrm>
        </p:grpSpPr>
        <p:grpSp>
          <p:nvGrpSpPr>
            <p:cNvPr id="75" name=""/>
            <p:cNvGrpSpPr/>
            <p:nvPr/>
          </p:nvGrpSpPr>
          <p:grpSpPr>
            <a:xfrm>
              <a:off x="842400" y="1070640"/>
              <a:ext cx="7494840" cy="5037840"/>
              <a:chOff x="842400" y="1070640"/>
              <a:chExt cx="7494840" cy="503784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842400" y="1070640"/>
                <a:ext cx="7494840" cy="1055880"/>
                <a:chOff x="842400" y="1070640"/>
                <a:chExt cx="7494840" cy="10558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885240" y="1070640"/>
                  <a:ext cx="7408440" cy="105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NIFIC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42400" y="1070640"/>
                  <a:ext cx="7494840" cy="105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842400" y="2126520"/>
                <a:ext cx="2000520" cy="2601000"/>
                <a:chOff x="842400" y="2126520"/>
                <a:chExt cx="2000520" cy="26010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885240" y="2126520"/>
                  <a:ext cx="191412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rganización del trabaj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iseño de puesto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finición de perfil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842400" y="2126520"/>
                  <a:ext cx="200052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842920" y="2126520"/>
                <a:ext cx="1756080" cy="2601000"/>
                <a:chOff x="2842920" y="2126520"/>
                <a:chExt cx="1756080" cy="26010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886120" y="2126520"/>
                  <a:ext cx="166932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emple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ncorpor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ovilidad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Desvincul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842920" y="2126520"/>
                  <a:ext cx="175608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599000" y="2126520"/>
                <a:ext cx="1675080" cy="2601000"/>
                <a:chOff x="4599000" y="2126520"/>
                <a:chExt cx="1675080" cy="260100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641840" y="2126520"/>
                  <a:ext cx="1588680" cy="260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lanific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Evalu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599000" y="2126520"/>
                  <a:ext cx="1675080" cy="260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274440" y="2126520"/>
                <a:ext cx="2062440" cy="1164600"/>
                <a:chOff x="6274440" y="2126520"/>
                <a:chExt cx="2062440" cy="116460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317640" y="2126520"/>
                  <a:ext cx="1975680" cy="11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 la compens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tribución monet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tribución no monetar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274440" y="2126520"/>
                  <a:ext cx="2062440" cy="11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274440" y="3291480"/>
                <a:ext cx="2062440" cy="1436040"/>
                <a:chOff x="6274440" y="3291480"/>
                <a:chExt cx="2062440" cy="143604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6317640" y="3291480"/>
                  <a:ext cx="1975680" cy="143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l desarroll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Promoción y carrer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pacit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lvl="1" marL="457200" algn="ctr">
                    <a:lnSpc>
                      <a:spcPct val="100000"/>
                    </a:lnSpc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prendizaje individual y colectiv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274440" y="3291480"/>
                  <a:ext cx="2062440" cy="143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842400" y="4727520"/>
                <a:ext cx="7494840" cy="1380960"/>
                <a:chOff x="842400" y="4727520"/>
                <a:chExt cx="7494840" cy="138096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885240" y="4727520"/>
                  <a:ext cx="7408440" cy="138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stión de las relaciones humanas y soc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lima laboral                                   Relaciones Laborales                       Políticas socia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842400" y="4727520"/>
                  <a:ext cx="7494840" cy="1380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" name=""/>
            <p:cNvSpPr/>
            <p:nvPr/>
          </p:nvSpPr>
          <p:spPr>
            <a:xfrm>
              <a:off x="838080" y="1066680"/>
              <a:ext cx="7504200" cy="5046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752480" y="167652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676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286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228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10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3733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05740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7339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1008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391520" y="4571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87A-9B0F-4187-8121-D069C9B0C66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B262B-8597-45A9-A8ED-4B28019C26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Enfoque de gestión de recursos humanos (GRH)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Eficacia de la organización como objetivo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Potencial humano como base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Concepción estratégica: proactiva, personas como activos potenciales que deben ser aprovechados para el logro de objetivos de la organiz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Visión integrada: estructura, cultura organizativa, competencias. En foque en motivación de empleados, reconociendo sus intereses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GRH como función directiva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6356-8A08-4063-BF40-27B2A1A3E6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B6686-BCC2-4051-998E-D8B90683EF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EL PERSONAL COMO RECURSO ORGANIZACIONAL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GRH busca aplicar recursos humanos al logro de los fines de la organización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Industrial736 BT"/>
              </a:rPr>
              <a:t>Para ello se requiere actuar sobre:</a:t>
            </a:r>
            <a:endParaRPr b="1" lang="en-US" sz="24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as competencias del personal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Industrial736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Industrial736 BT"/>
              </a:rPr>
              <a:t>La motivación del personal para aplicar sus competencias a los fines de la organización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90F2-C817-41E3-A670-2A202E022A1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D4A3A-D15B-4F0A-83ED-8716D0C123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520" y="14126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Industrial736 BT"/>
              </a:rPr>
              <a:t>Conductas laborales necesarias para hacer un trabajo efectivo (Woodruffe, 1993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Industrial736 BT"/>
              </a:rPr>
              <a:t>Capacidad real del individuo para dominar el conjunto de tareas que configuran la función en concreto (Reis, 1994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Industrial736 BT"/>
              </a:rPr>
              <a:t>Todo atributo personal relacionado al trabajo, conocimiento, experiencia, habilidades y valores que llevan a una persona a desempeñarse bien en su trabajo (Roberts, 1997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Industrial736 BT"/>
              </a:rPr>
              <a:t>Repertorios de comportamientos observables que algunas personas dominan mejor que otras y que los hacen eficaces en una situación determinada (Levy-Leboyer, 1997)</a:t>
            </a:r>
            <a:endParaRPr b="1" lang="en-US" sz="18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Industrial736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Industrial736 BT"/>
              </a:rPr>
              <a:t>Capacidad real para lograr un objetivo o resultado en un contexto dado (Mertens, 1996)</a:t>
            </a: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Industrial736 BT"/>
              </a:rPr>
              <a:t>COMPETENCIAS</a:t>
            </a:r>
            <a:endParaRPr b="1" lang="en-US" sz="3200" spc="-1" strike="noStrike">
              <a:solidFill>
                <a:srgbClr val="000000"/>
              </a:solidFill>
              <a:latin typeface="Industrial736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cursos Human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E60-E32A-4550-8C76-FFE38ED1D1A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FF839-FCE9-4035-99BA-8B3E782936B9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13:21:32Z</dcterms:created>
  <dc:creator>mmc</dc:creator>
  <dc:description/>
  <dc:language>en-US</dc:language>
  <cp:lastModifiedBy>mmc</cp:lastModifiedBy>
  <dcterms:modified xsi:type="dcterms:W3CDTF">2005-09-23T14:13:17Z</dcterms:modified>
  <cp:revision>5</cp:revision>
  <dc:subject/>
  <dc:title>RECURSOS HUMANOS</dc:title>
</cp:coreProperties>
</file>